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DC6-7FF2-4763-B9F0-4499B1FE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3AF-346A-43C8-A9C1-0B27C823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F70-D712-4404-AA6D-5748BF00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C11-8E9F-4719-9C71-C27B6902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4F4-9816-4451-B693-36B58DC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23FA-A192-4C8B-8812-28E1C25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E34-DC55-44C1-BAAF-6F1CAD9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0A6B-2373-4C07-87A3-D518CA3B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4E92-C603-444C-98C3-C999D5C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13A0-B457-465E-9253-9865133F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5550-4976-465A-85EC-1AE936DA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5B8-7641-4195-9326-1E3B282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9047-8F3B-4643-82A3-828FD36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1F01-8DA7-44DE-88BC-A558A15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247-A038-452E-9D46-AC7343B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DF9E-3E3B-42AF-A413-98CE8EEF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58A1-DE31-41FC-B0E9-AF191AB6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948E-D991-4998-B596-DBC41919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2E66-D153-447B-B186-140FB908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5797-5FAB-4D65-A6CF-60C61F7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51F4-466B-4012-B740-D30F48D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66CD-D8C2-4BB2-8D30-132779F2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86A-4268-4E2C-A41D-3896625F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6116-3446-44F0-A104-898CC0B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8F70-7E03-4984-90AD-8C0547E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A0B8-AC25-4958-A5DB-C0FE792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B8F3-C462-409A-820B-E3F4B13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BB7A-5ACF-40F1-A6A7-1704768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20D5-F1EB-4F43-AF4F-950DB7AE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3C40-8F90-405D-85AA-E36DE824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1822-9917-42DB-A062-E8BDAB0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206B-BF5C-479C-89D5-EBF3F78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AF5D-A327-47BB-BC7A-50A6C79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CF1-EC4D-4959-92D4-910697BF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867A-6D2E-44A6-A007-C5ECE4AB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008D-49E0-4D09-B026-7A0C082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2613-823F-4D1C-89E9-24CFF7E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8A48-C1CB-402C-9EBA-AAAA9EE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7FBD-76D0-4FA9-AD6C-C35CB9F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1E34-3958-4090-87A7-6730BAD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31D2-7312-4082-89B0-E6DD067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1040-2F1E-4E4D-B92D-62B11E5F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3791-8A10-4E61-9E7E-F52B1D1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F2C-CB5E-45D7-B230-9B4CE594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D1A-C3AD-469E-92C2-B5B1C07A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51C-F82C-4AFA-8166-A83FF2F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A58-0F60-4C90-A305-1D6364BC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685-529D-4021-AE49-22C4F8A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232-B843-48C8-84C5-73736C1D46B7}" type="slidenum">
              <a:rPr b="0" lang="ro-RO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789-8E11-40AE-9C89-80370C51459D}" type="slidenum">
              <a:rPr b="0" lang="ro-RO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C4B-0946-4B5E-999D-0D6E31ACE65A}" type="slidenum">
              <a:rPr b="0" lang="ro-RO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8DF8-B2AA-4FF6-AD65-CA13ACA8282E}" type="slidenum">
              <a:rPr b="0" lang="ro-RO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reptunghi 8" descr=""/>
          <p:cNvPicPr/>
          <p:nvPr/>
        </p:nvPicPr>
        <p:blipFill>
          <a:blip r:embed="rId1"/>
          <a:stretch/>
        </p:blipFill>
        <p:spPr>
          <a:xfrm>
            <a:off x="49320" y="109440"/>
            <a:ext cx="9191520" cy="1779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3059280" y="1052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4179960" cy="414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tretch/>
        </p:blipFill>
        <p:spPr>
          <a:xfrm>
            <a:off x="4786200" y="1857240"/>
            <a:ext cx="40006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642960" y="1000080"/>
            <a:ext cx="82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3. Realiz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Că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ut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si selection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inform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i si imagini semnificative despre cele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3 revoluții burgheze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pentru a le organiza intr-o prezentare Power 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ealiz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scurte descrieri ale acesto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dentific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asemănările și deosebirile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elata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ț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i un eveniment istoric important care </a:t>
            </a:r>
            <a:r>
              <a:rPr b="0" lang="ro-RO" sz="2400" spc="-1" strike="noStrike">
                <a:solidFill>
                  <a:srgbClr val="0033cc"/>
                </a:solidFill>
                <a:latin typeface="Calibri"/>
              </a:rPr>
              <a:t>v-a atras atenți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3920" y="856800"/>
            <a:ext cx="59058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o-RO" sz="3600" spc="-1" strike="noStrike">
                <a:solidFill>
                  <a:srgbClr val="04617b"/>
                </a:solidFill>
                <a:latin typeface="Calibri"/>
              </a:rPr>
              <a:t>Tim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8920" y="981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89ca3"/>
                </a:solidFill>
                <a:latin typeface="Constantia"/>
              </a:rPr>
              <a:t>    </a:t>
            </a:r>
            <a:r>
              <a:rPr b="1" lang="fr-FR" sz="3200" spc="-1" strike="noStrike">
                <a:solidFill>
                  <a:srgbClr val="089ca3"/>
                </a:solidFill>
                <a:latin typeface="Constantia"/>
              </a:rPr>
              <a:t>-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3 sapt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m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â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ni pe parcursul carora elevii vor prezenta profesorului realiz</a:t>
            </a:r>
            <a:r>
              <a:rPr b="1" lang="ro-RO" sz="3200" spc="-1" strike="noStrike">
                <a:solidFill>
                  <a:srgbClr val="089ca3"/>
                </a:solidFill>
                <a:latin typeface="Constantia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rile intermediare, la fiecare or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 de curs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    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-2h/saptamana acas</a:t>
            </a:r>
            <a:r>
              <a:rPr b="1" lang="ro-RO" sz="3200" spc="-1" strike="noStrike">
                <a:solidFill>
                  <a:srgbClr val="089ca3"/>
                </a:solidFill>
                <a:latin typeface="Arial"/>
              </a:rPr>
              <a:t>ă</a:t>
            </a:r>
            <a:r>
              <a:rPr b="1" lang="es-ES_tradnl" sz="3200" spc="-1" strike="noStrike">
                <a:solidFill>
                  <a:srgbClr val="089ca3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9ca3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089ca3"/>
                </a:solidFill>
                <a:latin typeface="Times New Roman"/>
              </a:rPr>
              <a:t>Prezentarea proiectulu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4617b"/>
                </a:solidFill>
                <a:latin typeface="Constantia"/>
              </a:rPr>
              <a:t>6.BIBLIOGRAF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Helie Jerom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Mic atlas istoric al Timpurilor moderne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Polirom,20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lmas, Dumitru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derea Bastiliei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Bucuresti, 195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Berstein Serge, Milza Pierr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Istoria Europei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, vol. 3, Iasi, Institutul European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Ciachir Nicolae,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Istorie universal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ro-RO" sz="2000" spc="-1" strike="noStrike">
                <a:solidFill>
                  <a:srgbClr val="000000"/>
                </a:solidFill>
                <a:latin typeface="Constantia"/>
              </a:rPr>
              <a:t>modern</a:t>
            </a:r>
            <a:r>
              <a:rPr b="0" lang="ro-RO" sz="2000" spc="-1" strike="noStrike">
                <a:solidFill>
                  <a:srgbClr val="000000"/>
                </a:solidFill>
                <a:latin typeface="Constantia"/>
              </a:rPr>
              <a:t>a, vol II, Bucuresti, Ed. Oscar Print, 1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www.e-scoala.ro/informatica/index.html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ro.wikipedia.org/wiki/Portal:Educaţie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Constantia"/>
              </a:rPr>
              <a:t>www.didactic.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www.referat</a:t>
            </a:r>
            <a:r>
              <a:rPr b="0" lang="ro-RO" sz="2600" spc="-1" strike="noStrike" u="sng">
                <a:solidFill>
                  <a:srgbClr val="000000"/>
                </a:solidFill>
                <a:uFillTx/>
                <a:latin typeface="Constantia"/>
              </a:rPr>
              <a:t>e.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o/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Evalu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RNA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 completat de fiecare dat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d realiza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o sarcin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ȘĂ 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UTO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e completat dupa fiecare or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Ist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2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gandito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6"/>
          <p:cNvSpPr txBox="1"/>
          <p:nvPr/>
        </p:nvSpPr>
        <p:spPr>
          <a:xfrm>
            <a:off x="971640" y="5229360"/>
            <a:ext cx="69152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 ce vă gândiţi văzându-le?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u 3" descr=""/>
          <p:cNvPicPr/>
          <p:nvPr/>
        </p:nvPicPr>
        <p:blipFill>
          <a:blip r:embed="rId1"/>
          <a:stretch/>
        </p:blipFill>
        <p:spPr>
          <a:xfrm>
            <a:off x="158760" y="1322280"/>
            <a:ext cx="8729640" cy="1798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st2_1387447-floral-ornam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6"/>
          <p:cNvSpPr txBox="1"/>
          <p:nvPr/>
        </p:nvSpPr>
        <p:spPr>
          <a:xfrm>
            <a:off x="468360" y="4365720"/>
            <a:ext cx="80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Iata la ce m-am gandit propunandu-va aceste imagini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611280" y="5805360"/>
            <a:ext cx="7848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ata la ce m-am gândit propunandu-vă aceste imagini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5280" y="476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 rot="613200">
            <a:off x="1582200" y="1023840"/>
            <a:ext cx="75614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1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o-RO" sz="4100" spc="-1" strike="noStrike">
                <a:solidFill>
                  <a:srgbClr val="ff0000"/>
                </a:solidFill>
                <a:latin typeface="Calibri"/>
              </a:rPr>
              <a:t>Revoluțiile Epocii Moderne</a:t>
            </a:r>
            <a:br>
              <a:rPr sz="4100"/>
            </a:br>
            <a:r>
              <a:rPr b="0" lang="ro-RO" sz="2500" spc="-1" strike="noStrike">
                <a:solidFill>
                  <a:srgbClr val="00b050"/>
                </a:solidFill>
                <a:latin typeface="Calibri"/>
              </a:rPr>
              <a:t>Franceză                                 Engleză                      Americană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286000" y="2414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0" y="2214720"/>
            <a:ext cx="2905200" cy="4286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FFA8818C"/>
          <p:cNvPicPr/>
          <p:nvPr/>
        </p:nvPicPr>
        <p:blipFill>
          <a:blip r:embed="rId5"/>
          <a:stretch/>
        </p:blipFill>
        <p:spPr>
          <a:xfrm>
            <a:off x="3071880" y="2214720"/>
            <a:ext cx="2857320" cy="43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4" name="Picture 6" descr=""/>
          <p:cNvPicPr/>
          <p:nvPr/>
        </p:nvPicPr>
        <p:blipFill>
          <a:blip r:embed="rId6"/>
          <a:stretch/>
        </p:blipFill>
        <p:spPr>
          <a:xfrm>
            <a:off x="6072120" y="2214720"/>
            <a:ext cx="2976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357120" y="428760"/>
            <a:ext cx="8285400" cy="58140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9ca3"/>
                </a:solidFill>
                <a:latin typeface="Constantia"/>
              </a:rPr>
              <a:t>Cum pot fi evitate greșelile trecutul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187280" y="5516640"/>
            <a:ext cx="6624720" cy="1068840"/>
          </a:xfrm>
          <a:prstGeom prst="rect">
            <a:avLst/>
          </a:prstGeom>
          <a:solidFill>
            <a:srgbClr val="e2fee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9ca3"/>
                </a:solidFill>
                <a:latin typeface="Calibri"/>
              </a:rPr>
              <a:t>Cu fapte mărețe sau cu vorbe deșa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http://www.napocanews.ro/wp-content/uploads/2009/12/revolutie-bucuresti-buchet-de-flori.jpg"/>
          <p:cNvPicPr/>
          <p:nvPr/>
        </p:nvPicPr>
        <p:blipFill>
          <a:blip r:embed="rId1"/>
          <a:stretch/>
        </p:blipFill>
        <p:spPr>
          <a:xfrm>
            <a:off x="1571760" y="1000080"/>
            <a:ext cx="55004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76040" y="1182600"/>
            <a:ext cx="86504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395280" y="333360"/>
            <a:ext cx="820908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Vous devrez faire une balade imaginaire au fil de la Loire et vous découvrirez de magnifiques châteaux,des villes et des jardins superbes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</a:t>
            </a:r>
            <a:r>
              <a:rPr b="1" lang="en-US" sz="1800" spc="-1" strike="noStrike">
                <a:solidFill>
                  <a:srgbClr val="008000"/>
                </a:solidFill>
                <a:latin typeface="Arial Unicode MS"/>
              </a:rPr>
              <a:t>Va trebui sa faceti o calatorie imaginara de-a lungul Loarei si sa descoperiti magnificele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castele,orasele si superbele gradini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99"/>
                </a:solidFill>
                <a:latin typeface="Comic Sans MS"/>
              </a:rPr>
              <a:t>Puis vous devrez faire un project sur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,,La Vallée de la Loire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”.(</a:t>
            </a:r>
            <a:r>
              <a:rPr b="1" lang="en-US" sz="1600" spc="-1" strike="noStrike">
                <a:solidFill>
                  <a:srgbClr val="009900"/>
                </a:solidFill>
                <a:latin typeface="Calibri"/>
              </a:rPr>
              <a:t>Apoi va trebui sa faceti un proiect despre Valea Loare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alibri"/>
              </a:rPr>
              <a:t>                 </a:t>
            </a:r>
            <a:r>
              <a:rPr b="1" lang="en-US" sz="1600" spc="-1" strike="noStrike" u="sng">
                <a:solidFill>
                  <a:srgbClr val="009900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10336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324000" y="33336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V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ț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i face o c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atorie imaginar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în sec. al XVII-lea și al XVIII-lea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ș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i v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ți descoperi evenimente care au schimbat lum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Veți realiz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un proiect despre</a:t>
            </a:r>
            <a:r>
              <a:rPr b="1" lang="ro-RO" sz="2800" spc="-1" strike="noStrike">
                <a:solidFill>
                  <a:srgbClr val="ffffff"/>
                </a:solidFill>
                <a:latin typeface="Calibri"/>
              </a:rPr>
              <a:t> celebrele revoluții burghe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716000" y="1699920"/>
            <a:ext cx="4038840" cy="4530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realizați comparații între mișcările revoluționar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rețineți evenimente și personalități deosebite implicate 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înțelegeți rolul și rostul unor astfel de eveniment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Să cunoașteți consecintele mișcărilor revoluționar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280" y="1699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s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ă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 explica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i termen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i ca: revoluție, monarhie absolută, ghilotină, monarhie constituțională,et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sa 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înțelegeți cauzele revoluțiilor burgheze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s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 folosi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i informatiile  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î</a:t>
            </a: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n scurte descrieri 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sa descrie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i  evenimente din istoria Fran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ț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ei</a:t>
            </a:r>
            <a:r>
              <a:rPr b="1" lang="ro-RO" sz="1600" spc="-1" strike="noStrike">
                <a:solidFill>
                  <a:srgbClr val="6600ff"/>
                </a:solidFill>
                <a:latin typeface="Verdana"/>
              </a:rPr>
              <a:t>,Angliei și S.U.A</a:t>
            </a:r>
            <a:r>
              <a:rPr b="1" lang="fr-FR" sz="1600" spc="-1" strike="noStrike">
                <a:solidFill>
                  <a:srgbClr val="6600ff"/>
                </a:solidFill>
                <a:latin typeface="Verdana"/>
              </a:rPr>
              <a:t>.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468360" y="476280"/>
            <a:ext cx="8280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Calibri"/>
              </a:rPr>
              <a:t>IATĂ CE VEȚI ȘTI LA SFÂR</a:t>
            </a: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Ş</a:t>
            </a:r>
            <a:r>
              <a:rPr b="1" lang="ro-RO" sz="2400" spc="-1" strike="noStrike">
                <a:solidFill>
                  <a:srgbClr val="6600cc"/>
                </a:solidFill>
                <a:latin typeface="Calibri"/>
              </a:rPr>
              <a:t>ITUL PROIECTULUI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79280" y="836640"/>
            <a:ext cx="842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Comic Sans MS"/>
              </a:rPr>
              <a:t>Vom lucra astfel: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33cc"/>
                </a:solidFill>
                <a:uFillTx/>
                <a:latin typeface="Calibri"/>
              </a:rPr>
              <a:t>1.Împărțirea pe g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3 grupe de câte 4 ele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33cc"/>
                </a:solidFill>
                <a:latin typeface="Calibri"/>
              </a:rPr>
              <a:t>Un elev din fiecare grupă va prezenta proiectul in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33cc"/>
                </a:solidFill>
                <a:uFillTx/>
                <a:latin typeface="Calibri"/>
              </a:rPr>
              <a:t>2.Alegerea mișcării revoluți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48:22Z</dcterms:created>
  <dc:creator>Alexandra</dc:creator>
  <dc:description/>
  <dc:language>en-US</dc:language>
  <cp:lastModifiedBy>user</cp:lastModifiedBy>
  <dcterms:modified xsi:type="dcterms:W3CDTF">2010-05-26T14:06:26Z</dcterms:modified>
  <cp:revision>15</cp:revision>
  <dc:subject/>
  <dc:title>Slide 1</dc:title>
</cp:coreProperties>
</file>